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F4E8-C878-4DE0-ADB2-DE238EED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F32-2C6B-4472-A744-FB40F37B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77B75-8268-4E87-9F34-0F8F5583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6E714-38B5-417B-8D13-21BB1E11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3D509-9BDE-4CFE-A828-ACDE512B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F572F-BBA2-4CD6-B869-B524BE7C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1E25B-C0A2-4A95-BD71-12043248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EF415-009E-4D43-A90E-B26F7F82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11AFF-1D2F-465B-A740-8268A6D0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8B94C-FE90-4F14-870E-0A59EC42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F86E1-BC8F-4839-871D-692013AE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DE133-EA2D-4489-84E8-3E12E4F9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90D-B820-48C7-AB59-263F621B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F9680-D43D-4104-BA32-333783C7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D834A-C458-4E51-979F-8D03E05A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77DC0-6B07-4617-849F-517858B5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5003E-504A-4EF6-9765-E5A5A9B5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B25C4-5790-4297-BC8D-DF9C1AC3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16292-6319-48F3-8835-BC57D507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034D1-9537-4661-9DC9-1886DBD2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1837E-F297-413C-91B4-1D9889E4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3FC17-E006-43AE-85D1-B41C89C9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B6365-9CFE-41EB-B19B-78A0B82D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07B6-F38C-44BD-A92E-337989F0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27886-D80E-4E7B-9959-DAD24763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C5B61-9FD2-4F8B-A6F8-9EF091EA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4ACA8-A4A8-4580-AC27-6C24A57D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0E9FA-3B22-45A9-B2EB-C073AD00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B02F2-10A7-43A3-AECF-CB605C80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747E3-315E-44C2-82B9-0E8F733A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CFC1C-0313-49AA-8460-AD77F2CF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8FE64-E929-4169-9A2A-BD5CB319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1ECD0-B62F-4619-9121-D69FB60A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1DFCE-BA47-4593-8563-F026FB70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FB3E-9CA8-4DC5-9718-7BBCF5D1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3FF6E-93D2-4E86-9931-B4868657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8C26B-4C0D-4273-AE06-A343C548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F6ED9-6250-4A07-A817-5DDDFCB0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A078F-7A5A-44FE-B72F-801C92E5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C0402-0727-4CF9-9BC7-C9AFB8A6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7D36E-E13F-4913-8D21-27F83B3D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0CCD0-9F3E-46F1-B4BA-11C2C307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F8573-6347-41AA-9A4E-CFB68FC6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4F0B2-6718-40DD-A5F5-073849F5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186DF-9B49-4E0B-993B-78F3860C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20A5-F59C-4A65-90F2-F11A6ED2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65FF0-6F09-4951-9760-025AA48B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B3219-ACAE-40AE-8688-9D2B03E9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C77E7-71F6-499D-B85C-4B2EF2AA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EDF49-8899-49B0-A5CB-13C6796E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55207-000B-47D5-A3B0-24258CE4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D0550-3ECA-4422-AC1C-593A9931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D5493-36E9-48FA-A43D-8261B8E9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DBF29F-39AA-446C-81E3-AA0A2DA1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B3304-63C7-4527-824A-1A0EA39E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0A9C66-F8CA-4BC0-9EAD-76A61A0B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E081-936E-4AC4-8286-D81E6593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BA0142-46AB-4265-952F-463EBAEC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CFF9FD-8865-4082-ABAD-FDD3907B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99A6C4-34AD-4136-A66A-89B973CA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A749BA-A577-4870-B691-7A122C67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645806-B972-45C3-B626-9D0057FD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5AC5F-904D-4AF2-B4FA-D99AE651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4DB69C-1269-41D8-AEBF-F1E49CC2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771962-09E5-4E81-8402-644682D2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92DDF3-B4D9-4594-808A-823E8196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DA1F35-6C8B-482F-9AC6-C7676B7F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AB31-20DD-44DC-99D1-FA5B1D03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6EDAF-097D-4F5B-83D6-98F2DE3C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ABC383-4AF0-47EE-81EC-1043FFCB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5ACC39-BEC3-4187-A8E4-806A3172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853DB8-6925-4D91-BC1A-0FFA229F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10E65-9EE2-469B-96DB-A40F1F59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D44386-3930-4E94-B863-59495959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AEF30-DF02-413D-A3BA-809D39BF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84DCD0-8E96-4016-A92A-A92CA181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4CDEFB-7451-45C1-80E1-1A359A4C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FBEC3B-A13A-4CAD-AF4E-322055B8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CDD0-0706-4FB4-8434-41529030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D7E3EC-4475-4DC8-9D5E-D017B8A5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ED3A8E-A762-4491-801F-2ABCB3E7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26F1C7-C9D8-4F97-9A86-6156A287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B954B7-217D-4EF0-AF3C-FAABD57E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E502BB-8372-4D4E-A491-D08BF99D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213FBF-1257-45F2-A066-F42D2D17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4BA726-7E56-4939-9FAD-13FA6573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4A97C7-5E6E-4C40-9959-B6F5A951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30661E-B41A-428B-8716-8DD695D9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006A45-D4D0-4F9A-906B-93C10823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552E-60CA-467B-B1BE-BEE9A9D2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CDF0EE-7038-47B5-9CF1-313DE598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AFEAFD-D926-4811-95A5-A1610170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B3472F-2DC4-4EDF-BFA8-AC4EE23F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AC5BA3-B00C-489F-8890-0975D92B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532FBE-2B99-47B7-8B96-CAA2E8E4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DA7533-0593-4274-9B1A-574F35DA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B08CE2-CE35-4D78-9768-25D561AC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5BCDB6-89C7-49B3-8AF0-AFF8072E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A6340B-483A-447A-907A-791BC3A8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0AB838-C9DA-48E3-85C1-EB0A4B9C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D7E6-8EE8-49DF-9232-FE38AC6F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F50081-2CF8-4546-966E-A8444BCC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7D8F50-DDC8-4161-AACA-12726913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807FD9-99B7-456D-BF8C-01650A36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8C832E-BF12-4B74-A530-1C88D2FB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2EE8D9-4CE7-4E18-B162-5BBB6CE0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8C7D71-B838-4EE1-9CFC-70748F0A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D5DB19-BCF1-448D-B494-EAC69145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4B6BEA-43D5-4DA3-B391-227AA690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C1A9D7-0C72-4395-8210-777272A2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62B1A5-F91B-43A5-A471-E7AB2054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1531-A992-424A-A4CB-F7A563FD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0415-F1D7-4E7C-8571-CDBCBF05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4C57C4-91F8-424A-9B1A-6E0FFECB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44B313-9754-43D1-BD1E-74A50F4B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0CF76D-5E4E-4152-ABD5-6724E1BC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7B4F87-61B5-4E26-8F81-26A4CF12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2C4D9E-AEA7-46ED-9DAD-5A5D1BE8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A9C54D-076B-455D-95B5-FF33C4E3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97A6A1-ECE3-4BC9-AC2A-35768328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E7940B-07A4-46E2-97CF-1FC3FDAA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CDCC89-2D24-4049-9386-8C93264C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AF7B9D-875B-45E1-A931-287AADC9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56EB-EAE9-4B03-9914-DA2E0967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B1FEB8-B94D-41EF-B8AA-662A775B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35E007-0E82-4648-B001-D144A99E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C7BA09-9E6B-4D7B-AE36-FF4E55BF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0EB0A1-BC72-4051-AB2F-42B048A1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D9844A-8E9B-4C1C-9669-850B9C05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06E587-0C74-464A-82EF-D6B75215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C01280-4D16-4BE9-BE8C-84558BFF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939F57-3040-4133-BF4C-5FBFB046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377326-02FA-4848-832E-A63FDBBF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DF07B1-B7F9-4A2A-8045-2C5BC9AD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4032-C449-470D-8B4A-DB597727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73A81E-CEBE-4B6C-B7D5-EEF2D1F5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F956FE-33BE-44BD-8A16-C4271B06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2A34B1-BC13-4A84-B5FE-61C553B2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AA48EA-29E5-4B5D-BF2E-4958566C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5E6A3A-AEF2-4F8B-994A-41EAD233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849A20-7A8D-4FC1-BDB9-9A1D77AF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18AAE0-96CB-4FA1-8013-6B3B9581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07C5D4-1759-4723-A528-36F649B3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6400A2-2FFB-4091-BF56-37EA808A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A98527-52CC-456A-8E6F-B3CD3F55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7708-4592-420E-8791-16557BB6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460ABA-B368-4C10-8D68-9FB37126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117AB9-9D73-441F-981B-65A5B2B7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DF9DE7-2F7A-416A-9180-6DE3C40F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B336CE-88C3-44F2-B184-1D861136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86F0A0-3BD9-48B9-8C30-876383D4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0E3228-3617-40E4-8AB6-3DE21243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C09CA3-0710-40A7-8291-CC99377D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4B9DEE-95CA-46E9-B394-9D21BAE8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54F9D9-405D-4C55-A8B0-50A2D112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E7EB83-BF5E-4770-957A-019A3A9C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36E4-C024-4370-A8D0-2A1C7DA5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213F1F-B2F6-4C4E-BEA0-31F70B25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564FFF-B302-489F-A5F7-5A22040B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DDF694-EE65-479F-A038-13C85948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133C08-76A4-48BE-873C-E04232F7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2B3A28-0592-48B0-A114-CC4EC30A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6BAA68-00E6-46CF-93CD-BEA0D21E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5CADA0-0A9B-45AA-AF12-E2099EF2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A52E24-A44E-4C20-B641-113E029F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FA5E46-61F1-4557-A10C-FE8758B4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7B2AAC-9C86-4ED0-84BD-903EF206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A4146-DC8A-4934-BD3F-31AF9D8F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7E0FAC-2312-4E5D-9AEF-E8BCDAF9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CF50E6-6F79-460C-9CB7-3DB98D35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CB9666-1BDB-4A36-88CF-90D0465A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B1D46-DC5F-4B14-BCB0-0E5FFCCD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36342-88C2-427A-9481-317B08F2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1ABAC-0A3B-416C-A227-4FEE5920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60F99-3DFB-41A1-9E0B-FD12D81B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A65-17D5-490D-9F41-205B0723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BEA52-E526-4DA8-B7F3-308C6297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33EC6-4B24-416D-B45A-2841A032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D78B6-C139-4A99-8AFD-0F04E295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A20D-6DEC-47EB-9FB5-C944C380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EB254-63D8-4BF6-AF91-EE9D2D79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6B0F-45F4-4D5C-AFB1-B20E1159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8FF22-D685-4916-89A8-0015CE8B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B7DF9-94C1-4FAF-BCB9-757B0328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13201-3613-4911-96DC-0F3BC4DE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5CFFE-9009-4C74-B258-B39B7393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DC60-CDCB-443A-88F7-BE01B782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C9AD8-CDFE-4839-B531-0AD506DE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CCB72-9C15-4C9F-9BFB-CEA3A690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1CF59-0108-40F9-A0E6-759B1AC5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18B02-32DD-44E8-BBEA-21363A2C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ED300-649F-42A9-AA86-422D567E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558D2-5E0D-4B25-9FA9-8B57476C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1B220-04EE-4FD2-8535-C113B9AE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AE1EB-EAB8-471B-B03B-0F71513E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7B522-2BE5-479F-88DA-E9F0E586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54FA0-57C1-47F3-987B-83E8C319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D5E-65ED-4F32-BBFE-1CE56193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07601-15F8-4D7D-936C-8CE968FF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22D16-04E2-4803-AC13-0AE0A055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C0612-1917-42DB-97A1-F8B0F747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E9329-C75E-4E52-A18C-B9D75243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9FC40-2AD7-417E-8969-7D715377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C5CEE-2401-41D8-8C91-B11A3B5E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F8879-1568-45D9-89EB-97A6AFA5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9D62D-F9D9-495E-BB31-D3452033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A9DDE-5FC9-41CF-8ABB-23877B1B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4FE0C-2530-4D30-AA13-4A9B367C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07A8-69A9-435A-9F06-AB83A997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55D72-37D1-492A-88EC-EDC9B787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43E0E-F94D-4230-B615-60E9323E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11FEC-C2DA-4108-A31C-BCBB6FD8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AD50D-5DFB-430A-8133-E4CCBA9B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9661A-ABB4-40EE-B8C1-F4BC32ED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CAF2A-2CA7-496B-846B-72D43676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38894-1C09-42C1-8B76-775E4067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AB042-4F7F-42A4-813E-D207A1D1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39835-79CD-4BAB-93FA-35D359F0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CBDD0-3A40-4115-9978-3F8B0D7B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71C4-B755-442C-A61B-C5F69AC7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C6101-20DE-4734-9C90-2E28DC4F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52CFE-274A-4598-822B-BC1337CE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6CDE0-8272-4D43-B903-C91DCDF2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6D190-1DDA-46CC-8ABE-50739030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0C659-D93F-4217-8955-F30C90A5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37E9D-D760-41C7-A5CB-CA37F0E7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633B5-83F3-4C5D-8C50-FDFE51B8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61E9C-3748-411F-9940-5342BE8A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EA6EF-7D55-47EE-A4A9-53D922EE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23CA3-7F7F-42D1-B6ED-B12D6AB3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7FB-1885-4602-B1D4-D20CFFF2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024EC-7557-4EB4-97BE-539880C1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18A91-63F9-4C45-899F-1F56CE34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77D62-4710-4051-9C3E-BD5DB9F4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E7D96-18EE-4D5D-A111-B91624D9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FA219-4179-475B-87B5-5CF41C8E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693F2-757D-4070-B61B-777671E7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13B06-37B9-4DAB-A9FF-DCB40633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873A6-B51B-4E1E-BA6D-8AEF627B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DD481-6926-42D1-A46A-52765185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DD168-63CA-484A-9C0E-893387C1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4EF-8404-42DE-9E9D-C7C55CC4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0B34C-C05D-4DA4-A5FA-5333E973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443E2-F8F5-48F8-8FBC-C96B40AB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3ACC8-E848-44F9-89F0-247219B9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97833-9D26-45AB-A70B-3D3F99E2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39B9A-BB9D-45DE-8A4E-9F04840C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6AB81-49DB-401B-929E-FA9286A2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DFA19-D923-42BD-9173-D056E8AB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EA0A0-B428-492C-877B-B18FBD66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29F58-6462-4902-BE52-ABB6776B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6A273-DF5B-461D-AFC6-BC0FC9CE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A4DE-5F64-4ED4-862B-361F016A6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60DD-3FF1-46C5-A6E1-5934216CEC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C0A9-C90C-4329-9F06-B28A7BCCB5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3D55-D2F8-471B-BD65-76EB2971D4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5707-CA95-4F7A-B618-580E3D91AF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B6E3-5766-40FF-80C9-2BA30DE6BB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6C44-017A-4BAA-9A25-50408DBD29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20A6-EEB2-439B-8A43-2096B025C1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F968-13A9-4CD6-8881-25EA3761EE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7DF1-14ED-43C3-9728-0D88D2D1B5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2A4A-A18C-47B6-9265-FCEE2D2439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8D7F-5AA6-45A7-BF4B-BE01AA7DF4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B11E-88A1-4AE7-8364-8DA4760AA7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4B5A-E159-4C04-9F71-FB1428F309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22BD-737B-429B-8DA2-55A872B0AC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D406-9063-43E7-B585-63C1894B87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1BA2-A3B6-4F0F-8BB4-2D64E33B6F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04FF-A382-4EF8-AAD6-533C262251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7DA2-D8F2-464D-ADF8-C75C9CB4A5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5271-1908-4851-B25B-12816DACE5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40DB-F2F7-4A60-B564-6AEA2B9133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EFCF-EAF8-44F7-A428-085C716B98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1C5D-3315-4888-9F11-4D2819CFC8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1A87-0ECB-4717-8652-8449B8D2E9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F4AC-A664-4AFC-89DC-51C99E6752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90EE-EA1D-4DD4-AD43-464AC81CF9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4368-C89B-49B9-8225-5CCE5F2FD1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6DA9-E90A-418B-85A7-851436072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ED8D-0B31-49F9-B923-D6A81C49BC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5EE3-2E57-4418-8ECA-DC1C9EDF42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1C12-C67E-49E0-AB77-CA463AE823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05C3-EF09-450B-AAAE-C433BDAAC3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677E-3CB9-4142-AB25-68A4528E60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AFB5-9B9C-4A55-9A1E-9BB053069F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64C2-2E8C-4A99-9E23-B521945A76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73B2-14D6-4E9B-B89B-C72C96655D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F53D-2FA7-42D4-9090-C9428D5FE8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B46A-6E03-40BD-90E2-694641A769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A0DA-4FF2-4878-B200-01432483DB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E62E-8F79-470D-A9E8-FD207EF084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1" descr=""/>
          <p:cNvPicPr/>
          <p:nvPr/>
        </p:nvPicPr>
        <p:blipFill>
          <a:blip r:embed="rId1"/>
          <a:stretch/>
        </p:blipFill>
        <p:spPr>
          <a:xfrm>
            <a:off x="2786040" y="3076560"/>
            <a:ext cx="35719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Picture 2" descr=""/>
          <p:cNvPicPr/>
          <p:nvPr/>
        </p:nvPicPr>
        <p:blipFill>
          <a:blip r:embed="rId1"/>
          <a:stretch/>
        </p:blipFill>
        <p:spPr>
          <a:xfrm>
            <a:off x="485640" y="1328760"/>
            <a:ext cx="81727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Picture 2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8344080" cy="5953320"/>
          </a:xfrm>
          <a:prstGeom prst="rect">
            <a:avLst/>
          </a:prstGeom>
          <a:ln w="0">
            <a:noFill/>
          </a:ln>
        </p:spPr>
      </p:pic>
      <p:sp>
        <p:nvSpPr>
          <p:cNvPr id="1069" name="矩形 2"/>
          <p:cNvSpPr/>
          <p:nvPr/>
        </p:nvSpPr>
        <p:spPr>
          <a:xfrm>
            <a:off x="1214280" y="1557360"/>
            <a:ext cx="650088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3"/>
          <p:cNvSpPr/>
          <p:nvPr/>
        </p:nvSpPr>
        <p:spPr>
          <a:xfrm>
            <a:off x="1128600" y="2035080"/>
            <a:ext cx="7301160" cy="282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4"/>
          <p:cNvSpPr/>
          <p:nvPr/>
        </p:nvSpPr>
        <p:spPr>
          <a:xfrm>
            <a:off x="500040" y="2428920"/>
            <a:ext cx="7980480" cy="314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5"/>
          <p:cNvSpPr/>
          <p:nvPr/>
        </p:nvSpPr>
        <p:spPr>
          <a:xfrm>
            <a:off x="500040" y="2822400"/>
            <a:ext cx="6500880" cy="320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7"/>
          <p:cNvSpPr/>
          <p:nvPr/>
        </p:nvSpPr>
        <p:spPr>
          <a:xfrm>
            <a:off x="500040" y="3214800"/>
            <a:ext cx="8001000" cy="328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8"/>
          <p:cNvSpPr/>
          <p:nvPr/>
        </p:nvSpPr>
        <p:spPr>
          <a:xfrm>
            <a:off x="500040" y="3643200"/>
            <a:ext cx="807264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9"/>
          <p:cNvSpPr/>
          <p:nvPr/>
        </p:nvSpPr>
        <p:spPr>
          <a:xfrm>
            <a:off x="500040" y="4000680"/>
            <a:ext cx="8072640" cy="353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10"/>
          <p:cNvSpPr/>
          <p:nvPr/>
        </p:nvSpPr>
        <p:spPr>
          <a:xfrm>
            <a:off x="500040" y="4429080"/>
            <a:ext cx="7786800" cy="320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11"/>
          <p:cNvSpPr/>
          <p:nvPr/>
        </p:nvSpPr>
        <p:spPr>
          <a:xfrm>
            <a:off x="500040" y="4857840"/>
            <a:ext cx="8072640" cy="296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12"/>
          <p:cNvSpPr/>
          <p:nvPr/>
        </p:nvSpPr>
        <p:spPr>
          <a:xfrm>
            <a:off x="500040" y="5214960"/>
            <a:ext cx="6500880" cy="350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矩形 13"/>
          <p:cNvSpPr/>
          <p:nvPr/>
        </p:nvSpPr>
        <p:spPr>
          <a:xfrm>
            <a:off x="500040" y="5643720"/>
            <a:ext cx="8072640" cy="320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矩形 14"/>
          <p:cNvSpPr/>
          <p:nvPr/>
        </p:nvSpPr>
        <p:spPr>
          <a:xfrm>
            <a:off x="500040" y="6051600"/>
            <a:ext cx="3714840" cy="320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3" descr=""/>
          <p:cNvPicPr/>
          <p:nvPr/>
        </p:nvPicPr>
        <p:blipFill>
          <a:blip r:embed="rId1"/>
          <a:stretch/>
        </p:blipFill>
        <p:spPr>
          <a:xfrm>
            <a:off x="447840" y="1028880"/>
            <a:ext cx="8248320" cy="480060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3071880" y="3000240"/>
            <a:ext cx="1000080" cy="349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4643280" y="2928960"/>
            <a:ext cx="71460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6489720" y="2954160"/>
            <a:ext cx="1082520" cy="360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2714760" y="3786120"/>
            <a:ext cx="128592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"/>
          <p:cNvSpPr/>
          <p:nvPr/>
        </p:nvSpPr>
        <p:spPr>
          <a:xfrm>
            <a:off x="4572000" y="3786120"/>
            <a:ext cx="71424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7"/>
          <p:cNvSpPr/>
          <p:nvPr/>
        </p:nvSpPr>
        <p:spPr>
          <a:xfrm>
            <a:off x="2857680" y="4214880"/>
            <a:ext cx="100008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"/>
          <p:cNvSpPr/>
          <p:nvPr/>
        </p:nvSpPr>
        <p:spPr>
          <a:xfrm>
            <a:off x="4414680" y="4260960"/>
            <a:ext cx="100044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9"/>
          <p:cNvSpPr/>
          <p:nvPr/>
        </p:nvSpPr>
        <p:spPr>
          <a:xfrm>
            <a:off x="5857920" y="4143240"/>
            <a:ext cx="63324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10"/>
          <p:cNvSpPr/>
          <p:nvPr/>
        </p:nvSpPr>
        <p:spPr>
          <a:xfrm>
            <a:off x="7000920" y="4143240"/>
            <a:ext cx="100008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1"/>
          <p:cNvSpPr/>
          <p:nvPr/>
        </p:nvSpPr>
        <p:spPr>
          <a:xfrm>
            <a:off x="1143000" y="5000760"/>
            <a:ext cx="100008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12"/>
          <p:cNvSpPr/>
          <p:nvPr/>
        </p:nvSpPr>
        <p:spPr>
          <a:xfrm>
            <a:off x="5214960" y="5000760"/>
            <a:ext cx="100008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13"/>
          <p:cNvSpPr/>
          <p:nvPr/>
        </p:nvSpPr>
        <p:spPr>
          <a:xfrm>
            <a:off x="6929280" y="5000760"/>
            <a:ext cx="64296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14"/>
          <p:cNvSpPr/>
          <p:nvPr/>
        </p:nvSpPr>
        <p:spPr>
          <a:xfrm>
            <a:off x="1071720" y="5429160"/>
            <a:ext cx="857160" cy="320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18"/>
          <p:cNvSpPr/>
          <p:nvPr/>
        </p:nvSpPr>
        <p:spPr>
          <a:xfrm>
            <a:off x="642960" y="857160"/>
            <a:ext cx="77868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476280" y="2238480"/>
            <a:ext cx="8191440" cy="2381040"/>
          </a:xfrm>
          <a:prstGeom prst="rect">
            <a:avLst/>
          </a:prstGeom>
          <a:ln w="0">
            <a:noFill/>
          </a:ln>
        </p:spPr>
      </p:pic>
      <p:sp>
        <p:nvSpPr>
          <p:cNvPr id="1039" name="矩形 2"/>
          <p:cNvSpPr/>
          <p:nvPr/>
        </p:nvSpPr>
        <p:spPr>
          <a:xfrm>
            <a:off x="1000080" y="3000240"/>
            <a:ext cx="85716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3"/>
          <p:cNvSpPr/>
          <p:nvPr/>
        </p:nvSpPr>
        <p:spPr>
          <a:xfrm>
            <a:off x="3429000" y="3000240"/>
            <a:ext cx="71424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4"/>
          <p:cNvSpPr/>
          <p:nvPr/>
        </p:nvSpPr>
        <p:spPr>
          <a:xfrm>
            <a:off x="5429160" y="3000240"/>
            <a:ext cx="85752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5"/>
          <p:cNvSpPr/>
          <p:nvPr/>
        </p:nvSpPr>
        <p:spPr>
          <a:xfrm>
            <a:off x="6643800" y="3000240"/>
            <a:ext cx="100008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"/>
          <p:cNvSpPr/>
          <p:nvPr/>
        </p:nvSpPr>
        <p:spPr>
          <a:xfrm>
            <a:off x="6929280" y="3429000"/>
            <a:ext cx="714600" cy="331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7"/>
          <p:cNvSpPr/>
          <p:nvPr/>
        </p:nvSpPr>
        <p:spPr>
          <a:xfrm>
            <a:off x="3951360" y="3832200"/>
            <a:ext cx="92844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"/>
          <p:cNvSpPr/>
          <p:nvPr/>
        </p:nvSpPr>
        <p:spPr>
          <a:xfrm>
            <a:off x="5429160" y="3857760"/>
            <a:ext cx="1000080" cy="314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9"/>
          <p:cNvSpPr/>
          <p:nvPr/>
        </p:nvSpPr>
        <p:spPr>
          <a:xfrm>
            <a:off x="7215120" y="3857760"/>
            <a:ext cx="1214640" cy="325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2" descr=""/>
          <p:cNvPicPr/>
          <p:nvPr/>
        </p:nvPicPr>
        <p:blipFill>
          <a:blip r:embed="rId1"/>
          <a:stretch/>
        </p:blipFill>
        <p:spPr>
          <a:xfrm>
            <a:off x="438120" y="2209680"/>
            <a:ext cx="8267760" cy="2438640"/>
          </a:xfrm>
          <a:prstGeom prst="rect">
            <a:avLst/>
          </a:prstGeom>
          <a:ln w="0">
            <a:noFill/>
          </a:ln>
        </p:spPr>
      </p:pic>
      <p:sp>
        <p:nvSpPr>
          <p:cNvPr id="1048" name="矩形 2"/>
          <p:cNvSpPr/>
          <p:nvPr/>
        </p:nvSpPr>
        <p:spPr>
          <a:xfrm>
            <a:off x="1285920" y="3000240"/>
            <a:ext cx="750096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3"/>
          <p:cNvSpPr/>
          <p:nvPr/>
        </p:nvSpPr>
        <p:spPr>
          <a:xfrm>
            <a:off x="1000080" y="3500280"/>
            <a:ext cx="1214640" cy="282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4"/>
          <p:cNvSpPr/>
          <p:nvPr/>
        </p:nvSpPr>
        <p:spPr>
          <a:xfrm>
            <a:off x="1143000" y="4214880"/>
            <a:ext cx="7143840" cy="379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674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258040" cy="2952720"/>
          </a:xfrm>
          <a:prstGeom prst="rect">
            <a:avLst/>
          </a:prstGeom>
          <a:ln w="0">
            <a:noFill/>
          </a:ln>
        </p:spPr>
      </p:pic>
      <p:sp>
        <p:nvSpPr>
          <p:cNvPr id="1053" name="矩形 2"/>
          <p:cNvSpPr/>
          <p:nvPr/>
        </p:nvSpPr>
        <p:spPr>
          <a:xfrm>
            <a:off x="5643720" y="2428920"/>
            <a:ext cx="100008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3"/>
          <p:cNvSpPr/>
          <p:nvPr/>
        </p:nvSpPr>
        <p:spPr>
          <a:xfrm>
            <a:off x="1214280" y="2857680"/>
            <a:ext cx="178596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4"/>
          <p:cNvSpPr/>
          <p:nvPr/>
        </p:nvSpPr>
        <p:spPr>
          <a:xfrm>
            <a:off x="1000080" y="3714840"/>
            <a:ext cx="1571760" cy="331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5"/>
          <p:cNvSpPr/>
          <p:nvPr/>
        </p:nvSpPr>
        <p:spPr>
          <a:xfrm>
            <a:off x="4429080" y="4071960"/>
            <a:ext cx="378612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2" descr=""/>
          <p:cNvPicPr/>
          <p:nvPr/>
        </p:nvPicPr>
        <p:blipFill>
          <a:blip r:embed="rId1"/>
          <a:stretch/>
        </p:blipFill>
        <p:spPr>
          <a:xfrm>
            <a:off x="504720" y="1433520"/>
            <a:ext cx="8134560" cy="3990960"/>
          </a:xfrm>
          <a:prstGeom prst="rect">
            <a:avLst/>
          </a:prstGeom>
          <a:ln w="0">
            <a:noFill/>
          </a:ln>
        </p:spPr>
      </p:pic>
      <p:sp>
        <p:nvSpPr>
          <p:cNvPr id="1058" name="矩形 2"/>
          <p:cNvSpPr/>
          <p:nvPr/>
        </p:nvSpPr>
        <p:spPr>
          <a:xfrm>
            <a:off x="2286000" y="1785960"/>
            <a:ext cx="271476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3"/>
          <p:cNvSpPr/>
          <p:nvPr/>
        </p:nvSpPr>
        <p:spPr>
          <a:xfrm>
            <a:off x="6215040" y="2571840"/>
            <a:ext cx="135720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4"/>
          <p:cNvSpPr/>
          <p:nvPr/>
        </p:nvSpPr>
        <p:spPr>
          <a:xfrm>
            <a:off x="1785960" y="3786120"/>
            <a:ext cx="3857760" cy="407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5"/>
          <p:cNvSpPr/>
          <p:nvPr/>
        </p:nvSpPr>
        <p:spPr>
          <a:xfrm>
            <a:off x="1071720" y="4286160"/>
            <a:ext cx="235728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6"/>
          <p:cNvSpPr/>
          <p:nvPr/>
        </p:nvSpPr>
        <p:spPr>
          <a:xfrm>
            <a:off x="4194000" y="4643280"/>
            <a:ext cx="714600" cy="351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7"/>
          <p:cNvSpPr/>
          <p:nvPr/>
        </p:nvSpPr>
        <p:spPr>
          <a:xfrm>
            <a:off x="6786720" y="4643280"/>
            <a:ext cx="928440" cy="317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8"/>
          <p:cNvSpPr/>
          <p:nvPr/>
        </p:nvSpPr>
        <p:spPr>
          <a:xfrm>
            <a:off x="7000920" y="1143000"/>
            <a:ext cx="15001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2" descr=""/>
          <p:cNvPicPr/>
          <p:nvPr/>
        </p:nvPicPr>
        <p:blipFill>
          <a:blip r:embed="rId1"/>
          <a:stretch/>
        </p:blipFill>
        <p:spPr>
          <a:xfrm>
            <a:off x="504720" y="1281240"/>
            <a:ext cx="813456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2" descr=""/>
          <p:cNvPicPr/>
          <p:nvPr/>
        </p:nvPicPr>
        <p:blipFill>
          <a:blip r:embed="rId1"/>
          <a:stretch/>
        </p:blipFill>
        <p:spPr>
          <a:xfrm>
            <a:off x="428760" y="1581120"/>
            <a:ext cx="82864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15:1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